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88D4-9E92-41B3-9048-ACD186620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402F-DFA9-4058-A422-E9C5FC6ECD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4B8-EDCE-4DD8-9DC3-ECF7F1E2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804-6DD9-4447-A759-D68545DF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059-505F-49B9-A77F-5ABBB863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4D5-8922-4762-A374-DCA79CEE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36CD-6B9B-4C02-A20B-0AD97C79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02E5-46C1-421C-A3B1-34BFD747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5372-A1A9-41BD-9C64-1E335D59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B36F-86C0-4176-BDF6-207CBADF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AEAF-2000-4169-A81E-077AD815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2398-71DE-48C0-8EB4-24384A4F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2909-43ED-4E67-9D97-3781F98A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AC6-9DDA-484C-B50A-FE0E1C07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7CA5-77FC-4D21-8DA0-0A8ECE18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668F-0140-4DF3-977F-09E9D660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692B-D58F-4039-BDC8-DD4C2AA2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1D13-CDE8-4EDC-A0B4-8E9B5F17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3627-1035-45DC-B6CD-36CEA0D0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5269A-02C0-4D6B-BE8F-3420C5B2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CF629-9E2D-44C4-AF82-7C0FF41F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836F-7532-4DC2-8D5A-7383CFEE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827E-DEA7-4319-A278-1111508D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5C681-CBE4-40FF-8E60-5EC43E08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E91-EB54-4C8A-8A97-A000AF32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A4AE2-CFCA-475E-8655-7BF99B39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78635-FE6A-4A2B-B0BF-69F5FFBA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643E-FD55-4C53-9560-946EBFF7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E9ACB-3210-44E9-AD41-AD19082D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B765-59D1-4A67-8903-617DCBBA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24CC9-515B-41A4-A3BD-7B4588B8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F1439-6D2F-4693-AB22-8EEA6AAC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E8DF7-D797-4D15-BB5F-5BFC60AF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C1B3E-B460-44FD-BAA8-665D92B2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752D8-51A6-43F7-BB55-9AD0855F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D79-4109-450F-A3DF-F119EE54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9C9E-7FAF-4550-AD74-349BB0BA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FFE2D-F67D-467D-9061-5BB7CBA2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A76F8-4E57-4A0B-B414-7FBF561A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CE42-3A58-4038-90E5-1BB6C9CA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C7F7B-990D-4051-A72F-6B300222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C358B-9839-4AC1-9DA7-0BDE0C0E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E5DD9-EDA4-4F07-AC21-A8DB4935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3A9BF-88A9-4C88-B9D2-9057BE3B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98B7C-B3FC-42B7-8C36-4033C2B4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12285-F4C1-40F3-AEB3-EE2265D1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8B0-0DA7-4348-AF4C-B7B02DB3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BA69-C872-4FA6-9AD4-F77A7C0A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4163F-A3D4-4BA7-9487-4A762685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AC018-473B-431E-A662-1DB4DAF3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A4BE6-9D80-44E7-9EBE-18CF9B17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E8103-9B74-40D1-AEB1-C45817BA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B658A-7540-4F4C-9921-099A0C68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7FF6F-1FCE-407B-A27B-12686194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0EA2B-9C24-461D-9475-968D991E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FB8B6-60E2-4456-8DB2-574E80AF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DAC8C-9601-4142-9B46-E8EFB553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8CC-F679-4049-8988-80736BAA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86536-AE79-4EB9-93A1-CAD40F85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50E17-1515-4BD6-A703-8F496E9A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1A0DD-893B-4AB5-95BC-C5A36FD8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4DA93-5338-41CA-AC01-8C10FE22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04857-A171-4294-B7BA-BBDE1FFB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7FBC9-820C-42A2-83EA-B49270E5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135CA-6CF7-42F5-9C86-03138C87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34717-D2B5-47E8-A22C-C977CEDF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1C8C7-EDEF-4453-B33E-3E66F43B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D426C-8389-48C2-82BF-B5D5EC3C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58E-0C81-44F7-956F-E5912F3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C1F1D-5570-486A-B2F8-44FE7C10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AAAE5-A903-4737-B556-7D33F2E0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77D49-055A-43A4-8D7B-EF55DE27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0984D-F49E-4377-A84D-D789C0FB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0019E-88E5-4062-8FEC-C06711E9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F43D-2A58-41BC-85D0-B3A0FC5F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0504F-F7E6-45F8-BC3A-37D836F9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F49D5-D17E-435B-BC57-1AA3F6AE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85CCD-DBD1-4986-AA24-504E16EE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52737-6E2A-4D83-B389-A62B02B2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E3B-DB68-4FA6-9617-D29407D1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83D3E-014A-419E-8738-2D6D53A9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72DD7-EF58-4A37-B36D-8800985A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B05BC-7404-4DD2-BB6E-31295BE5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5E731-8590-475F-915B-FDA43462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12098-71C9-4714-9A0D-778D8E68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79C-1B37-4861-84F8-5ECEFA97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62C3-057B-43AD-8733-D792CD091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70D2-C5BC-47FC-86B0-7F9EEF25C9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67DB-1B79-44CD-8A2D-3FC8F3A22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DF98-05B4-4B10-8243-6EF619310B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4184-AE3A-49C6-9FEC-430AC5B62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8A42-422A-43C4-B44D-97D14B910F0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B41F-84A5-45C0-804E-88F5E368EA9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2800" cy="1841400"/>
          </a:xfrm>
          <a:prstGeom prst="rect">
            <a:avLst/>
          </a:prstGeom>
          <a:ln w="0">
            <a:noFill/>
          </a:ln>
        </p:spPr>
      </p:pic>
      <p:sp>
        <p:nvSpPr>
          <p:cNvPr id="310" name="Moon 7"/>
          <p:cNvSpPr/>
          <p:nvPr/>
        </p:nvSpPr>
        <p:spPr>
          <a:xfrm rot="20112600">
            <a:off x="590400" y="377640"/>
            <a:ext cx="1067040" cy="160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5-Point Star 8"/>
          <p:cNvSpPr/>
          <p:nvPr/>
        </p:nvSpPr>
        <p:spPr>
          <a:xfrm>
            <a:off x="1828800" y="762120"/>
            <a:ext cx="304920" cy="380880"/>
          </a:xfrm>
          <a:custGeom>
            <a:avLst/>
            <a:gdLst>
              <a:gd name="textAreaLeft" fmla="*/ 94320 w 304920"/>
              <a:gd name="textAreaRight" fmla="*/ 210600 w 30492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04800" h="381000">
                <a:moveTo>
                  <a:pt x="0" y="145529"/>
                </a:moveTo>
                <a:lnTo>
                  <a:pt x="116424" y="145530"/>
                </a:lnTo>
                <a:lnTo>
                  <a:pt x="152400" y="0"/>
                </a:lnTo>
                <a:lnTo>
                  <a:pt x="188376" y="145530"/>
                </a:lnTo>
                <a:lnTo>
                  <a:pt x="304800" y="145529"/>
                </a:lnTo>
                <a:lnTo>
                  <a:pt x="210611" y="235470"/>
                </a:lnTo>
                <a:lnTo>
                  <a:pt x="246588" y="380999"/>
                </a:lnTo>
                <a:lnTo>
                  <a:pt x="152400" y="291056"/>
                </a:lnTo>
                <a:lnTo>
                  <a:pt x="58212" y="380999"/>
                </a:lnTo>
                <a:lnTo>
                  <a:pt x="94189" y="23547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5-Point Star 9"/>
          <p:cNvSpPr/>
          <p:nvPr/>
        </p:nvSpPr>
        <p:spPr>
          <a:xfrm>
            <a:off x="533520" y="1905120"/>
            <a:ext cx="380880" cy="457200"/>
          </a:xfrm>
          <a:custGeom>
            <a:avLst/>
            <a:gdLst>
              <a:gd name="textAreaLeft" fmla="*/ 117720 w 380880"/>
              <a:gd name="textAreaRight" fmla="*/ 263160 w 38088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381000" h="457200">
                <a:moveTo>
                  <a:pt x="0" y="174634"/>
                </a:moveTo>
                <a:lnTo>
                  <a:pt x="145530" y="174636"/>
                </a:lnTo>
                <a:lnTo>
                  <a:pt x="190500" y="0"/>
                </a:lnTo>
                <a:lnTo>
                  <a:pt x="235470" y="174636"/>
                </a:lnTo>
                <a:lnTo>
                  <a:pt x="381000" y="174634"/>
                </a:lnTo>
                <a:lnTo>
                  <a:pt x="263263" y="282564"/>
                </a:lnTo>
                <a:lnTo>
                  <a:pt x="308236" y="457198"/>
                </a:lnTo>
                <a:lnTo>
                  <a:pt x="190500" y="349267"/>
                </a:lnTo>
                <a:lnTo>
                  <a:pt x="72764" y="457198"/>
                </a:lnTo>
                <a:lnTo>
                  <a:pt x="117737" y="28256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5-Point Star 10"/>
          <p:cNvSpPr/>
          <p:nvPr/>
        </p:nvSpPr>
        <p:spPr>
          <a:xfrm>
            <a:off x="76320" y="304920"/>
            <a:ext cx="380880" cy="457200"/>
          </a:xfrm>
          <a:custGeom>
            <a:avLst/>
            <a:gdLst>
              <a:gd name="textAreaLeft" fmla="*/ 117720 w 380880"/>
              <a:gd name="textAreaRight" fmla="*/ 263160 w 38088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381000" h="457200">
                <a:moveTo>
                  <a:pt x="0" y="174634"/>
                </a:moveTo>
                <a:lnTo>
                  <a:pt x="145530" y="174636"/>
                </a:lnTo>
                <a:lnTo>
                  <a:pt x="190500" y="0"/>
                </a:lnTo>
                <a:lnTo>
                  <a:pt x="235470" y="174636"/>
                </a:lnTo>
                <a:lnTo>
                  <a:pt x="381000" y="174634"/>
                </a:lnTo>
                <a:lnTo>
                  <a:pt x="263263" y="282564"/>
                </a:lnTo>
                <a:lnTo>
                  <a:pt x="308236" y="457198"/>
                </a:lnTo>
                <a:lnTo>
                  <a:pt x="190500" y="349267"/>
                </a:lnTo>
                <a:lnTo>
                  <a:pt x="72764" y="457198"/>
                </a:lnTo>
                <a:lnTo>
                  <a:pt x="117737" y="28256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2" descr="C:\Documents and Settings\Sarah\Local Settings\Temporary Internet Files\Content.IE5\UHZILPAY\MC900002122[1].wmf"/>
          <p:cNvPicPr/>
          <p:nvPr/>
        </p:nvPicPr>
        <p:blipFill>
          <a:blip r:embed="rId3"/>
          <a:stretch/>
        </p:blipFill>
        <p:spPr>
          <a:xfrm>
            <a:off x="685800" y="3332160"/>
            <a:ext cx="4343400" cy="30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88920" y="0"/>
          <a:ext cx="896616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Straight Connector 6"/>
          <p:cNvSpPr/>
          <p:nvPr/>
        </p:nvSpPr>
        <p:spPr>
          <a:xfrm>
            <a:off x="838080" y="4267080"/>
            <a:ext cx="807732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Down Arrow 7"/>
          <p:cNvSpPr/>
          <p:nvPr/>
        </p:nvSpPr>
        <p:spPr>
          <a:xfrm>
            <a:off x="1905120" y="42670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Moon 6"/>
          <p:cNvSpPr/>
          <p:nvPr/>
        </p:nvSpPr>
        <p:spPr>
          <a:xfrm rot="19915200">
            <a:off x="838080" y="4568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5-Point Star 7"/>
          <p:cNvSpPr/>
          <p:nvPr/>
        </p:nvSpPr>
        <p:spPr>
          <a:xfrm>
            <a:off x="1371600" y="60948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5-Point Star 8"/>
          <p:cNvSpPr/>
          <p:nvPr/>
        </p:nvSpPr>
        <p:spPr>
          <a:xfrm rot="20806800">
            <a:off x="800280" y="1327320"/>
            <a:ext cx="380880" cy="457200"/>
          </a:xfrm>
          <a:custGeom>
            <a:avLst/>
            <a:gdLst>
              <a:gd name="textAreaLeft" fmla="*/ 111240 w 380880"/>
              <a:gd name="textAreaRight" fmla="*/ 269640 w 380880"/>
              <a:gd name="textAreaTop" fmla="*/ 167760 h 457200"/>
              <a:gd name="textAreaBottom" fmla="*/ 357840 h 457200"/>
            </a:gdLst>
            <a:ahLst/>
            <a:rect l="textAreaLeft" t="textAreaTop" r="textAreaRight" b="textAreaBottom"/>
            <a:pathLst>
              <a:path w="381000" h="457200">
                <a:moveTo>
                  <a:pt x="0" y="174634"/>
                </a:moveTo>
                <a:lnTo>
                  <a:pt x="141548" y="167721"/>
                </a:lnTo>
                <a:lnTo>
                  <a:pt x="190500" y="0"/>
                </a:lnTo>
                <a:lnTo>
                  <a:pt x="239452" y="167721"/>
                </a:lnTo>
                <a:lnTo>
                  <a:pt x="381000" y="174634"/>
                </a:lnTo>
                <a:lnTo>
                  <a:pt x="269706" y="285205"/>
                </a:lnTo>
                <a:lnTo>
                  <a:pt x="308236" y="457198"/>
                </a:lnTo>
                <a:lnTo>
                  <a:pt x="190500" y="357815"/>
                </a:lnTo>
                <a:lnTo>
                  <a:pt x="72764" y="457198"/>
                </a:lnTo>
                <a:lnTo>
                  <a:pt x="111294" y="285205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5-Point Star 9"/>
          <p:cNvSpPr/>
          <p:nvPr/>
        </p:nvSpPr>
        <p:spPr>
          <a:xfrm>
            <a:off x="304920" y="380880"/>
            <a:ext cx="304560" cy="457200"/>
          </a:xfrm>
          <a:custGeom>
            <a:avLst/>
            <a:gdLst>
              <a:gd name="textAreaLeft" fmla="*/ 93960 w 304560"/>
              <a:gd name="textAreaRight" fmla="*/ 210600 w 30456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304800" h="457200">
                <a:moveTo>
                  <a:pt x="0" y="174634"/>
                </a:moveTo>
                <a:lnTo>
                  <a:pt x="116424" y="174636"/>
                </a:lnTo>
                <a:lnTo>
                  <a:pt x="152400" y="0"/>
                </a:lnTo>
                <a:lnTo>
                  <a:pt x="188376" y="174636"/>
                </a:lnTo>
                <a:lnTo>
                  <a:pt x="304800" y="174634"/>
                </a:lnTo>
                <a:lnTo>
                  <a:pt x="210611" y="282564"/>
                </a:lnTo>
                <a:lnTo>
                  <a:pt x="246588" y="457198"/>
                </a:lnTo>
                <a:lnTo>
                  <a:pt x="152400" y="349267"/>
                </a:lnTo>
                <a:lnTo>
                  <a:pt x="58212" y="457198"/>
                </a:lnTo>
                <a:lnTo>
                  <a:pt x="94189" y="282564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2280" y="2514600"/>
          <a:ext cx="8991720" cy="2225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3505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lane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warf Plane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ther Obj. That Orbit  The Su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en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pi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lu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tu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aume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ran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keMak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ptu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rcu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diameter must be 2000.0 km or high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must have 20 or less moon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’s orbital period should be 100 earth years or les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’s mean distance from the sun should be 30 AU or les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bital Inclination should be 20 degrees or les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bital Eccentricity should be .15 or bellow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also must orbit the Su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18" name="Object 8"/>
          <p:cNvGraphicFramePr/>
          <p:nvPr/>
        </p:nvGraphicFramePr>
        <p:xfrm>
          <a:off x="-228600" y="223920"/>
          <a:ext cx="9372600" cy="64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223920"/>
                    <a:ext cx="937260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0" y="228600"/>
          <a:ext cx="9144000" cy="62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Straight Connector 8"/>
          <p:cNvSpPr/>
          <p:nvPr/>
        </p:nvSpPr>
        <p:spPr>
          <a:xfrm>
            <a:off x="990720" y="5181480"/>
            <a:ext cx="731520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Down Arrow 9"/>
          <p:cNvSpPr/>
          <p:nvPr/>
        </p:nvSpPr>
        <p:spPr>
          <a:xfrm rot="10800000">
            <a:off x="2514240" y="4114800"/>
            <a:ext cx="560520" cy="105408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0" y="301680"/>
          <a:ext cx="9144000" cy="62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1680"/>
                    <a:ext cx="91440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Straight Connector 6"/>
          <p:cNvSpPr/>
          <p:nvPr/>
        </p:nvSpPr>
        <p:spPr>
          <a:xfrm>
            <a:off x="914400" y="2057400"/>
            <a:ext cx="807732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Down Arrow 7"/>
          <p:cNvSpPr/>
          <p:nvPr/>
        </p:nvSpPr>
        <p:spPr>
          <a:xfrm rot="10800000">
            <a:off x="5714640" y="1142640"/>
            <a:ext cx="407880" cy="9018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88920" y="0"/>
          <a:ext cx="896616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Straight Connector 6"/>
          <p:cNvSpPr/>
          <p:nvPr/>
        </p:nvSpPr>
        <p:spPr>
          <a:xfrm>
            <a:off x="762120" y="4343400"/>
            <a:ext cx="815328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Down Arrow 7"/>
          <p:cNvSpPr/>
          <p:nvPr/>
        </p:nvSpPr>
        <p:spPr>
          <a:xfrm>
            <a:off x="5943600" y="43434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Down Arrow 9"/>
          <p:cNvSpPr/>
          <p:nvPr/>
        </p:nvSpPr>
        <p:spPr>
          <a:xfrm>
            <a:off x="2133720" y="43434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88920" y="0"/>
          <a:ext cx="896616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Straight Connector 6"/>
          <p:cNvSpPr/>
          <p:nvPr/>
        </p:nvSpPr>
        <p:spPr>
          <a:xfrm>
            <a:off x="838080" y="4952880"/>
            <a:ext cx="739152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Down Arrow 9"/>
          <p:cNvSpPr/>
          <p:nvPr/>
        </p:nvSpPr>
        <p:spPr>
          <a:xfrm>
            <a:off x="2133720" y="4952880"/>
            <a:ext cx="255600" cy="673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42" name="Object 4"/>
          <p:cNvGraphicFramePr/>
          <p:nvPr/>
        </p:nvGraphicFramePr>
        <p:xfrm>
          <a:off x="88920" y="0"/>
          <a:ext cx="896616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Straight Connector 6"/>
          <p:cNvSpPr/>
          <p:nvPr/>
        </p:nvSpPr>
        <p:spPr>
          <a:xfrm>
            <a:off x="762120" y="3886200"/>
            <a:ext cx="815328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Down Arrow 7"/>
          <p:cNvSpPr/>
          <p:nvPr/>
        </p:nvSpPr>
        <p:spPr>
          <a:xfrm>
            <a:off x="2209680" y="38862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134360" y="-4336560"/>
            <a:ext cx="53316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47" name="Object 6"/>
          <p:cNvGraphicFramePr/>
          <p:nvPr/>
        </p:nvGraphicFramePr>
        <p:xfrm>
          <a:off x="457200" y="2874960"/>
          <a:ext cx="403848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74960"/>
                    <a:ext cx="40384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13"/>
          <p:cNvGraphicFramePr/>
          <p:nvPr/>
        </p:nvGraphicFramePr>
        <p:xfrm>
          <a:off x="0" y="762120"/>
          <a:ext cx="9144000" cy="625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2120"/>
                    <a:ext cx="91440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Straight Connector 9"/>
          <p:cNvSpPr/>
          <p:nvPr/>
        </p:nvSpPr>
        <p:spPr>
          <a:xfrm>
            <a:off x="914400" y="4191120"/>
            <a:ext cx="807732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Down Arrow 11"/>
          <p:cNvSpPr/>
          <p:nvPr/>
        </p:nvSpPr>
        <p:spPr>
          <a:xfrm>
            <a:off x="4191120" y="41911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19" descr="C:\Documents and Settings\Sarah\Local Settings\Temporary Internet Files\Content.IE5\IF10MN0Q\MC900351976[1].wmf"/>
          <p:cNvPicPr/>
          <p:nvPr/>
        </p:nvPicPr>
        <p:blipFill>
          <a:blip r:embed="rId5"/>
          <a:stretch/>
        </p:blipFill>
        <p:spPr>
          <a:xfrm>
            <a:off x="6781680" y="152280"/>
            <a:ext cx="161136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22:26:59Z</dcterms:created>
  <dc:creator>mchamorro</dc:creator>
  <dc:description/>
  <dc:language>en-US</dc:language>
  <cp:lastModifiedBy>Sarah</cp:lastModifiedBy>
  <dcterms:modified xsi:type="dcterms:W3CDTF">2011-02-17T01:26:17Z</dcterms:modified>
  <cp:revision>29</cp:revision>
  <dc:subject/>
  <dc:title>What is a Planet?</dc:title>
</cp:coreProperties>
</file>